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04754-AEBF-4460-8963-5EFD4F7D4D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6CA4-120B-461D-9904-4F113DED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F477-36A5-4F40-984C-7B5AADA9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B60A8-954D-4EEA-AF7D-F454655CD1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4DB0D-C11E-4C52-90A9-BA987803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D095-3AC7-44BC-A2D6-05E9B511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5E0B-5415-43B2-85B9-D0121893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3B9E-02E2-4934-B9F1-2D425D4E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7514-B1E9-43CE-98B6-5A59A776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4AD1-0663-429F-A749-D41D4E3E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6611-5E52-4A04-8F8D-4661D4FE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23F0-C288-431A-A21A-D80BA357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703E-2647-46C6-BD25-437507580F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20500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第四章 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第六节    中国传统康复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661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毕桂芝</a:t>
            </a:r>
            <a:r>
              <a:rPr b="0" lang="zh-CN" sz="4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火罐法 ：闪火法 、投火法 、贴壁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罐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抽气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3904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起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适应证与禁忌证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7576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作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擦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摩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22304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推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拿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揉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296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搓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拍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捶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729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康复法种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29612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212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六、中药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813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在中医理论的指导下，辨证应用中药，以治疗疾病或促进康复的一种方法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包括植物药、动物药、矿物药及部分化学、生物制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作用：舒经活络、强筋健骨、行气活血、化瘀止痛、益气养血、扶正祛邪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七、饮食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符合辨证施治的原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所用之食物，必须与所用之药相辅佐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饮食宜清淡，反对膏粱厚味、过食肥甘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55640" y="1341360"/>
            <a:ext cx="76564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针灸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中药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饮食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36740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中医理论的指导下对患者进行康复治疗的方法 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经活络，促进康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气活血，散寒止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扶正祛邪，调整阴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56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处方原则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选穴的原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近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远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随症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穴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71600"/>
            <a:ext cx="784872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刺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位 ：仰卧位、侧卧位、坐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进针方法：指切进针法 、夹持进针法 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提捏进针法 、舒张进针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灸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条灸 ：温和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雀啄灸、回旋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条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炷灸：直接灸 、隔姜灸、隔蒜灸 、隔饼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舒适的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针刺部位及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意外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异常情况的处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部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疼痛部位或相应穴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55:34Z</dcterms:modified>
  <cp:revision>92</cp:revision>
  <dc:subject/>
  <dc:title>内科护理学</dc:title>
</cp:coreProperties>
</file>